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E66-CE58-4A35-8D88-5F2D1DF4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47F-09C6-4D8D-A1FE-03D1CA00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657-6CD3-43CB-A96A-A4B3FD5B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A47-752F-442C-8F5B-B3A788BF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CFA-6E35-44DE-99AD-1CB6EA9D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B610-C162-4D42-A5F7-D48DF35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DEC4-81DF-45F4-BF7B-8A589F4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C07-9895-4203-9517-0DD3421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B52-CA6C-4A92-BEE6-8F49C926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FE0-94E0-4A80-8004-F5DD276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7C2-A3AB-46B8-AEC3-D5301DE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E31-4C7D-402C-82A5-2117838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DEC-42FD-4E93-9B12-B17FB6C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2EE-B782-4EEE-829D-3B972D1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6B7-9FA7-49E0-B7BD-B97BF3D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A89B-BA26-4CF7-BF92-967CB60D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5047-2C98-4740-8A9D-2D5BBE8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8A7-1DD9-4EEC-85C7-C313CA2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8CF-DFC0-436D-973D-9BE9520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D31-160B-47D4-AE73-7AEA1E8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B23-3540-44BC-A013-B32D395A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13D-9F4F-45F5-BB3A-D11C4BD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2F9-73E6-4A02-8C36-46B993D6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0F0-813C-49B6-A0D7-EA1DDCE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BAC-0D0D-4FE8-84D4-1C59E0D9C8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55C-CB59-46D5-B9F9-D195AABD3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itannic Bold"/>
              </a:rPr>
              <a:t>Peedie the Puffin goes to Fij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arning Cen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va, F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naka vakalevu Papay Westr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hank you for sending Peedie our way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ill miss hi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arrives at TL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BULA! NAMASTE!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502884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now in the south Pacific, where the palm trees grow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3682800" cy="276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3606840" cy="270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eats Fijian food (Dalo and pork) and Indian curry with Naan! Y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5400000">
            <a:off x="66240" y="2752200"/>
            <a:ext cx="4343400" cy="32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3911760" cy="293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edie makes a new friend..and thinks about getting a traditional tattoo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18840" y="2657160"/>
            <a:ext cx="41907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4733640" y="2657160"/>
            <a:ext cx="41907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gets to sit on a traditional Fijian mat, he is a popular puffi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5400000">
            <a:off x="609480" y="2742840"/>
            <a:ext cx="365760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91120" y="2514600"/>
            <a:ext cx="4419360" cy="331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edie’s last escapades before he leaves for Hong Kong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143160" cy="419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5400000">
            <a:off x="609480" y="2438280"/>
            <a:ext cx="4267080" cy="32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graders send Peedie off with memories of Fiji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609624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Graders send Peedie off with more memories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248520" cy="46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lies for the long journe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267080" cy="300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6019560"/>
            <a:ext cx="7238880" cy="75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3911760" cy="300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1:15:08Z</dcterms:created>
  <dc:creator>Nina Ferry</dc:creator>
  <dc:description/>
  <dc:language>en-US</dc:language>
  <cp:lastModifiedBy>Nina Ferry</cp:lastModifiedBy>
  <dcterms:modified xsi:type="dcterms:W3CDTF">2009-06-06T11:48:48Z</dcterms:modified>
  <cp:revision>1</cp:revision>
  <dc:subject/>
  <dc:title>Peedie the Puffin goes to Fiji</dc:title>
</cp:coreProperties>
</file>